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A7C9-35C2-46E1-8C02-99E69157B6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CEB512-AC10-4542-B679-19B989CAF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BA7-CC21-499C-90CC-A1665C57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D44-34DE-484E-8701-A3EA91FE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6C9-2892-4572-B765-56B2198C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8C5-E43D-47F1-905B-FD948B3F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847-1688-40DA-9E46-DF1D6C74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45F-5196-43D2-AE98-169BEFD3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BAA-426A-45D5-8D0B-10F47DA1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BBF-B18E-4150-A5BB-19169853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8F6-A7EC-4D82-BADD-41C41977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D89-CC14-433B-8D8F-1019F4BF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A02-508D-4DD2-9BE4-985506F2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1A9-25AE-444E-9C57-5BC15E1E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6D41-45B6-4E15-8BAA-73CF0649B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0040" y="5000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Иванова Татьяна Сергеевна, 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2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07:25Z</dcterms:modified>
  <cp:revision>5</cp:revision>
  <dc:subject/>
  <dc:title>Слайд 1</dc:title>
</cp:coreProperties>
</file>